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4B6C-17E3-4700-8DD5-616395EEB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935E-80B4-4436-8BF7-6721B0858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07AD-012A-4495-B15A-C663DDC97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B2FC-7FCF-49AB-AE38-40AB44EE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4F8D-B992-4916-A925-0FAE55E42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A677-A486-4349-B3DA-812FF429D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686F-17F7-4EBB-8911-C10491A13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D179-2CC9-4E57-9613-8966D1DEE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AC65-CB0F-430A-96D2-32481EBE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2318-5AC7-457F-9177-3DB06FC9A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D01A-61AE-4DB3-ABF9-7CCAE43D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484F-EB1A-44EF-A72C-7E325FEBC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98DE-4B80-48B0-8C0F-FF7B1465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6FB-CF02-49F1-B3ED-C39B91DC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9737-D683-4270-909C-B91D3E22E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F195-1A57-4563-8341-057945B69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D652-F530-4964-8081-DB4357F5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722-08DD-4D82-B3B2-7E089531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C21-27B5-4FB8-8F66-D7D74A3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F07-61CF-4324-990F-63417329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8AB-B494-4FBE-B6E7-EC509BA4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A846-4121-4006-A053-2220E2CA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284A-77D6-44DB-B1B7-5786D749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F0B6-C967-4EF9-BEA4-0EFA92B0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F385-22CE-4F1A-B8BC-A1522B89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9429-3D18-4F28-8982-6FEFD164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639-7D4F-491C-BB4F-7A06CD1A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4583-C631-4229-A287-2A3555DC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932-635C-46BC-ABD8-11373402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5F27-521C-4790-8E12-BAAE2C3B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E4A2-53FB-4963-9E77-BB792258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2003-C782-463B-ACE4-31A0693D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6B57-6A4C-497B-8C66-8FC91198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22B3-D44F-47E8-B01E-6127A439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F44-AD42-4E19-A5D9-E5B6E6E1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BE4-8888-4B4E-AFB6-58F8B12C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DA9-21A4-4CB9-8D83-0B1A5583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43D-246D-4365-A1E8-03D8BFFE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B5B-DB8A-4A16-86B2-4428ECD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A0B-4B2B-4AC0-AB24-A6B9E58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720-0246-4E66-9819-027FCB8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2EAF-43FE-41FD-B37C-4176908B77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2DB6-B450-4442-9C04-785277CE8F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he Texas Revoluti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on the following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 i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ost important for you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he Alamo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first battle between the Texans and Mexicans took place at on old mission that was used as a 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t was called the Ala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001 alamo 1"/>
          <p:cNvPicPr/>
          <p:nvPr/>
        </p:nvPicPr>
        <p:blipFill>
          <a:blip r:embed="rId1"/>
          <a:stretch/>
        </p:blipFill>
        <p:spPr>
          <a:xfrm>
            <a:off x="4267080" y="2209680"/>
            <a:ext cx="4454640" cy="3359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he Fight for the Alamo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only 183 Texans guarding the Ala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xican army had 1,800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xans held the Alamo for twelve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thirteenth day, Santa Anna ordered his men to storm the for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it was over, all but five Texans were dead. The men not killed in the battle were executed by Santa A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ans were shocked by the slaughter at the Alamo and vowed to fight for their freedo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lamo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284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alamo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99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Battle at San Jacinto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a Anna had over 300 more Texans executed at Go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xan general, Sam Hous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hered more troops, 800 in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luded Tejanos, American settlers, volunteers from the United States, and many free and enslaved African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et Santa Anna at San Jac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ir battle cry was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Remember the Alam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over in 18 minutes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 than half the Mexican army was kill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nta Anna was forced to sign a treaty giving Texas its freedom. With the Battle of San Jacinto,Texas was now an independent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santa-ana-houston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General Santa Anna surrenders to General Houst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Lone Star Republic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1836, Texas declared itself The Lone Star Repub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m Houston was elected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me Americans wanted Texas to be part of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me people were afraid of Texas becoming a slave state, others of war with Mex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th would eventually happ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republic-texas-flag"/>
          <p:cNvPicPr/>
          <p:nvPr/>
        </p:nvPicPr>
        <p:blipFill>
          <a:blip r:embed="rId1"/>
          <a:stretch/>
        </p:blipFill>
        <p:spPr>
          <a:xfrm>
            <a:off x="5486400" y="304920"/>
            <a:ext cx="3276720" cy="1949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SamHouston"/>
          <p:cNvPicPr/>
          <p:nvPr/>
        </p:nvPicPr>
        <p:blipFill>
          <a:blip r:embed="rId2"/>
          <a:stretch/>
        </p:blipFill>
        <p:spPr>
          <a:xfrm>
            <a:off x="5638680" y="2514600"/>
            <a:ext cx="2664000" cy="3789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Spanish Texa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had been in the Americas since Columbus in 14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ain owned a large part of North America, including Tex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na17th1"/>
          <p:cNvPicPr/>
          <p:nvPr/>
        </p:nvPicPr>
        <p:blipFill>
          <a:blip r:embed="rId1"/>
          <a:stretch/>
        </p:blipFill>
        <p:spPr>
          <a:xfrm>
            <a:off x="3809880" y="1676520"/>
            <a:ext cx="5029200" cy="4922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Tejano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21, only about 4,000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janos lived in Texa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janos are people of Spanish heritage who consider Texas their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Spanish government tried to attract Spanish setters to Texas, but very few c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Moses Austi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erican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ses Austin was given permission by the Spanish government to start a colony in Tex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 the Americans had to do was follow Spanish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es died in 1821, so his son Stephen tried to start the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mosesaustin"/>
          <p:cNvPicPr/>
          <p:nvPr/>
        </p:nvPicPr>
        <p:blipFill>
          <a:blip r:embed="rId1"/>
          <a:stretch/>
        </p:blipFill>
        <p:spPr>
          <a:xfrm>
            <a:off x="5334120" y="1905120"/>
            <a:ext cx="31683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 1821, Mexico won independence from Spai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pic>
        <p:nvPicPr>
          <p:cNvPr id="102" name="Picture 1028" descr="spain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5034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Mexican Independence Changes Texas 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xican government told Stephen Austin h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ttlers would have to become Mexican citizens and members of the Roman Catholic Church, and learn Spa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821 and 1827, Austin attracted 297 families to his new settl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sfaustin"/>
          <p:cNvPicPr/>
          <p:nvPr/>
        </p:nvPicPr>
        <p:blipFill>
          <a:blip r:embed="rId1"/>
          <a:stretch/>
        </p:blipFill>
        <p:spPr>
          <a:xfrm>
            <a:off x="4821120" y="1981080"/>
            <a:ext cx="345456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ccess of Austin’s colony attracted more land speculators and settlers to Texas from the United States. Some were looking for a new life, some were escaping from the law, and others were looking for a chance to grow rich. By 1830, the population had swelled to about 30,000,with Americans outnumbering the Tejanos six to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ising Tensions in Texas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1829, the Mexican government outlawed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settlers wanted to keep their slaves so they could grow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Americans also didn’t want to learn Spanish or follow Mexican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ry few settlers had converted to Catholic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1829, the Mexican government closed the state to further American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ans had to start paying taxes for the first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xican president, General Antonio Lopez de Santa Anna sent more Mexican troops to Tex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xans began talk of breaking away from 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Stephen Austin was jailed, the Texans did revo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anta Anna led 6,000 troops to Texas to put down the revo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26:26Z</dcterms:created>
  <dc:creator>Jeff Kash</dc:creator>
  <dc:description/>
  <dc:language>en-US</dc:language>
  <cp:lastModifiedBy>Owner</cp:lastModifiedBy>
  <cp:lastPrinted>2007-02-15T00:15:57Z</cp:lastPrinted>
  <dcterms:modified xsi:type="dcterms:W3CDTF">2012-12-08T16:11:19Z</dcterms:modified>
  <cp:revision>31</cp:revision>
  <dc:subject/>
  <dc:title>PowerPoint Presentation  -  The Texas Revolution</dc:title>
</cp:coreProperties>
</file>